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BC9B-4F3E-41F7-9930-5075258637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DF41-E6BB-42C8-A8CE-4300F89BD9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015-D748-49CE-857D-16784E29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8F9C-2D0E-4941-AD52-1FEDAE50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D81-2D74-4E16-BD53-3670530D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E29-8B4D-4A10-B7BB-1F41DD6A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FE82-DC6F-47B4-A9D2-0AB5D4C5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0158-4CCE-4076-8BA8-B88C8B6B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516A-CEB0-4670-9B44-5E23F64F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69B8-EF18-4AC3-9061-8EC575FE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1FC1-BA2C-4063-898D-7EFDDB9F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E0C5-5320-48ED-B317-6F77E08F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3CBE-38EE-4F22-A141-4F7FD324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9DF-77C1-45E2-B73D-9F1E3AE2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AFF3-B62A-4B00-9493-67C1CBA8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D37E-D01C-462D-B733-798F2295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F1E3-F045-40B0-A19D-9AB55EB1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5308-CD09-4B73-A6A1-96866A89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7A9C-869E-4A10-A3D1-FCB87DC3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CD814-10CB-47F6-BBA7-57201460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B3718-3997-4CC7-A19B-90085DD5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F6A60-1CE0-401D-877A-CE78C9EA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ECE2-D38D-4542-8BCD-7258BD73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6665C-CC71-45F4-A6BA-A1005C3E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7EE-320F-4ACC-A1A8-CAFBF8FB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E3CBC-0511-4CE6-ACA9-9540C7B7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9BBA-2A55-43B7-92C3-FC76327C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9C0A-5800-45F5-B6B7-1EA9D8ED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0D4D2-59E6-4DA1-9E02-2ADC11A5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2FEB4-520C-41C8-AF27-75EBE03C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0C1F3-AC06-47D1-9DB5-D314E69C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E7687-E7A8-4B22-B897-27CEDC40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C97EE-4628-4A74-ABB4-B9E5DCEA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F52AD-EE5F-483E-A7EC-88ED1A30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AAF72-E9F5-4277-810E-C9B07441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120-336B-4078-9F7D-E1FE8493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FC2BC-32AE-447B-B1FB-E98F5D1B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1AFEA-87D4-44CA-AADB-E96CC865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4F865-54E2-4C3A-8664-5F94D9EF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D4406-2F7E-4D9A-AE4D-9B736CD6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8900B-273B-47E4-A494-F930E49B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2BC9D-361A-4470-94B6-8532066D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B3A84-094E-4F3C-A543-6659ECB2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99A45-E2A6-447A-AEA6-8C1CCA10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46A62-E8D2-4937-9770-78A39049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0BF2B-B028-414F-93E3-DC602236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921-A01C-4B08-ABEB-37BC64A1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1B9D8-9872-4587-901C-F0159D1B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66713-BF84-43E5-B8DF-726B8C5A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D6458-7C51-4258-8494-2A3C0599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0E66B-D33E-4055-B057-36538F6B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1F470-4BD3-46E7-9EAD-253DE3D7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92728-4432-4287-BEA4-38E14946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F8B2F-D0CA-4E55-8533-4A28CED6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7E5CC-3FC0-4C93-85E5-18C7F28E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B1969-6412-411C-8D20-3D99ADAC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22EAF-3A4A-47F7-AE56-78A7F28B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CBD-F487-47F1-B482-4537C13F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46F43-76B0-4C5D-AF31-121C91D6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095-8EE6-4349-B486-C5220B54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C6D-F99A-4505-BACD-7C8DE923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55E-AA2A-4118-912F-0BF3F151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A349-657E-4610-A434-EC0BC5FB1E7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C6EE-2A67-49B1-9724-4A1BEADEDD0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5C35-B889-4288-8F70-B87B7F06B65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1278-C3EE-46E1-BBCA-FC44E0A8A77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B9CB-4B0F-47B6-940F-E6A8BBE76E1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\339820_79_i_094.png"/>
          <p:cNvPicPr/>
          <p:nvPr/>
        </p:nvPicPr>
        <p:blipFill>
          <a:blip r:embed="rId1"/>
          <a:stretch/>
        </p:blipFill>
        <p:spPr>
          <a:xfrm>
            <a:off x="971640" y="1336680"/>
            <a:ext cx="75610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0:01Z</dcterms:modified>
  <cp:revision>37</cp:revision>
  <dc:subject/>
  <dc:title>ТВОРЧЕСКАЯ ДЕЯТЕЛЬНОСТЬ: ЗНАКОМСТВО С ТЕХНИКОЙ ИЗОНИТЬ</dc:title>
</cp:coreProperties>
</file>